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18ab3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116FE-8CE0-4E25-AB7E-AF6A0D00478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ACFAB-E1B8-4323-85E2-F743AF63EFC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E32D3-1D0B-4C40-97EF-601BDD4CEF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1716A-5F98-4F06-BAF1-69D349F264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F29A5-AE6A-4554-A05F-774116569C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52C5F-AB1E-42F6-87A5-0B300C17F8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A08ED-619D-47F0-B514-9E0432B3D4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B5317-0B6D-49BB-8C93-66763F1E1E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62FC6-442D-47CA-A819-A16220C8EE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B7850-C8EC-42B0-8603-B450FB91A4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8571-CDD6-4631-A873-C0F379116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0772-E950-4F4D-935E-8D7A084D7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4B11-CCAA-49F0-853B-7F18B0D39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9EE9-8F2E-4208-8D0D-CEF904E92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B6EE2-D6B7-4DC0-8A21-340554C6C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49A7B-50B6-4855-977D-3F84E5F8F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1A7E7-27A1-4332-B90E-DED5732C5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77703-8420-4403-9E44-F385318A7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F866F-826E-4A0E-AE41-964516AC5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5A6A9-6FC5-493B-BE41-5BAEF1E24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5F4F2-2FD1-4A69-B7E6-FB4A4832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758C-7AD3-437C-91D6-5F1707348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6C20F-79D7-41C5-9D37-220812855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DB320-39A0-42FF-BC30-121E56627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E45A7-2C99-472D-8D87-F07DD60F2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1478F-C722-4ED3-A88F-24CFCE01A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524CF-BB49-4465-BE31-598459842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CB190-FDA0-4F0F-AEC3-66889F20F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E2B9F-F352-4F64-A499-6CF40AF15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F1EAB-0A7A-48DF-BBA2-84186E6A0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32CC7-9AB3-44BA-A242-F9CCA5458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5E946-7773-4066-BBC1-D8AFBF076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F125-726E-43B2-8702-FA92DD9E7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15C14-D919-4B43-BE58-AE6ABF5ED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C8CAF-2253-4058-9D95-10E75296E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9CCF0-D3F4-4BFA-8DBE-214D0FB6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6AEC3-016B-4B32-8F8B-2E5AE00D5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91AD4-0868-4C2D-802F-4E49D0687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BC829-DB09-4141-9AEF-E55F95706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E6BB9-E47E-4E27-A3D6-1FCF8281C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07C27-DE91-4B66-BD43-3FCE78E74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68CA8-50F1-468B-A8A5-E3837DF25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46915-79B7-4A13-8D9D-00DD6C8EB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89C3-8F85-4672-8D10-A629F7C4C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22CD6-CE83-4412-98B0-AFDBA74C7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2D966A-0C8A-480C-B467-FD17E742F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5797D-DCDF-45E8-B756-226213DC1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366D8-0881-44D3-B178-A2EE54B85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DF565-080F-4433-8247-73D743426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B2B44-94E6-4837-AFB9-AFF795BBF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D6B9C9-6396-485B-A474-83D19FABA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65D24-9DCF-46AC-9805-4D25E25D7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12BC2-433C-45B2-91C8-19B504578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7D99-E243-4C08-90EB-F89F7FF9B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4E2F-2316-4290-9BCC-429A68094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2D04-A537-49F7-8714-48CFEA2D1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9822-9D97-4574-9119-C8AA0957D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59DD-1D33-4B24-A7FE-80F3AB849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418ab3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418ab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18ab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a6b72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d891d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8abad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18ab3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418ab3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18ab3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18ab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32567-4B3A-4B43-A1F8-ADEE52615837}" type="slidenum">
              <a:rPr b="0" lang="ru-RU" sz="900" spc="-1" strike="noStrike">
                <a:solidFill>
                  <a:srgbClr val="418ab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418ab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18ab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a6b72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d891d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8abad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18ab3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418ab3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418ab3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18ab3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18ab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D590D-C44F-4DF8-A896-48843F5FF722}" type="slidenum">
              <a:rPr b="0" lang="ru-RU" sz="900" spc="-1" strike="noStrike">
                <a:solidFill>
                  <a:srgbClr val="418ab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418ab3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418ab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18ab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a6b72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d891d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8abad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18ab3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418ab3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8abad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8abad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18ab3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18ab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C2388-0DE3-4C67-9231-479675CDC8BA}" type="slidenum">
              <a:rPr b="0" lang="ru-RU" sz="900" spc="-1" strike="noStrike">
                <a:solidFill>
                  <a:srgbClr val="418ab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418ab3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418ab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18ab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a6b72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d891d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8abad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18ab3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418ab3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8abad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8abad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18ab3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18ab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EC93B-A219-4013-8556-9DE4AFD4D1C6}" type="slidenum">
              <a:rPr b="0" lang="ru-RU" sz="900" spc="-1" strike="noStrike">
                <a:solidFill>
                  <a:srgbClr val="418ab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573228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418ab3"/>
                </a:solidFill>
                <a:latin typeface="Trebuchet MS"/>
              </a:rPr>
              <a:t>1270, Стратегический менеджмент базовый курс</a:t>
            </a:r>
            <a:endParaRPr b="0" lang="en-US" sz="25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187280" y="4233960"/>
            <a:ext cx="7407360" cy="9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Канд. экон. наук, доцент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Попова Инна Викторовн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1116000" y="1989000"/>
            <a:ext cx="740736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Реализация стратег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1093680" y="3357720"/>
            <a:ext cx="7407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rm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90d33"/>
                </a:solidFill>
                <a:latin typeface="Trebuchet MS"/>
              </a:rPr>
              <a:t>Тема 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 u="sng">
                <a:solidFill>
                  <a:srgbClr val="418ab3"/>
                </a:solidFill>
                <a:uFillTx/>
                <a:latin typeface="Trebuchet MS"/>
              </a:rPr>
              <a:t>План</a:t>
            </a: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сновные стадии выполнения стратег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ратегические изменени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ратегический контроль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 u="sng">
                <a:solidFill>
                  <a:srgbClr val="418ab3"/>
                </a:solidFill>
                <a:uFillTx/>
                <a:latin typeface="Trebuchet MS"/>
              </a:rPr>
              <a:t>Деятельность по реализации стратегии:</a:t>
            </a: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50560" y="1600200"/>
            <a:ext cx="87138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418ab3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Мобилизация (3-6 мес.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418ab3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План и проработка (6 мес.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418ab3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Реализация преобразований (12-24 мес.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418ab3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Новая стратегия предполагает новые критерии работы с клиентами, новые продукты, новые рабочие процессы, новые навыки, новые технологии и новую корпоративную культуру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179280" y="785520"/>
            <a:ext cx="8785440" cy="57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5e5e5e"/>
                </a:solidFill>
                <a:latin typeface="Trebuchet MS"/>
              </a:rPr>
              <a:t>Проведение необходимых изменений способствует тому, что на предприятии создаются условия, необходимые для осуществления выбранной стратегии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 u="sng">
                <a:solidFill>
                  <a:srgbClr val="404040"/>
                </a:solidFill>
                <a:uFillTx/>
                <a:latin typeface="Trebuchet MS"/>
              </a:rPr>
              <a:t>Типы стратегических изменений: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фундаментальные изменения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радикальное преобразование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умеренное преобразование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бычные изменения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418ab3"/>
                </a:solidFill>
                <a:latin typeface="Trebuchet MS"/>
              </a:rPr>
              <a:t>Последовательность внутренних изменений </a:t>
            </a:r>
            <a:r>
              <a:rPr b="0" lang="ru-RU" sz="3200" spc="-1" strike="noStrike">
                <a:solidFill>
                  <a:srgbClr val="418ab3"/>
                </a:solidFill>
                <a:latin typeface="Trebuchet MS"/>
              </a:rPr>
              <a:t>в </a:t>
            </a:r>
            <a:r>
              <a:rPr b="1" lang="ru-RU" sz="3200" spc="-1" strike="noStrike">
                <a:solidFill>
                  <a:srgbClr val="418ab3"/>
                </a:solidFill>
                <a:latin typeface="Trebuchet MS"/>
              </a:rPr>
              <a:t>организации</a:t>
            </a:r>
            <a:endParaRPr b="0" lang="en-US" sz="3200" spc="-1" strike="noStrike">
              <a:solidFill>
                <a:srgbClr val="418ab3"/>
              </a:solidFill>
              <a:latin typeface="Trebuchet MS"/>
            </a:endParaRPr>
          </a:p>
        </p:txBody>
      </p:sp>
      <p:pic>
        <p:nvPicPr>
          <p:cNvPr id="232" name="Picture 2" descr="Q:\Инна\В Г У Э С\Лекции\Стратегический менеджмент - бакалавры\media\image1.png"/>
          <p:cNvPicPr/>
          <p:nvPr/>
        </p:nvPicPr>
        <p:blipFill>
          <a:blip r:embed="rId1"/>
          <a:stretch/>
        </p:blipFill>
        <p:spPr>
          <a:xfrm>
            <a:off x="395280" y="2276640"/>
            <a:ext cx="8201160" cy="3429000"/>
          </a:xfrm>
          <a:prstGeom prst="rect">
            <a:avLst/>
          </a:prstGeom>
          <a:ln w="0">
            <a:noFill/>
          </a:ln>
        </p:spPr>
      </p:pic>
      <p:sp>
        <p:nvSpPr>
          <p:cNvPr id="233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178920" y="620280"/>
            <a:ext cx="87138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4000" spc="-1" strike="noStrike">
                <a:solidFill>
                  <a:srgbClr val="404040"/>
                </a:solidFill>
                <a:latin typeface="Trebuchet MS"/>
              </a:rPr>
              <a:t>Организационная структура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Выбор той или иной организационной структуры зависит от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lvl="2" marL="1371600" indent="-457200">
              <a:lnSpc>
                <a:spcPct val="90000"/>
              </a:lnSpc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размер и степень разнообразия деятельности, присущие организаци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371600" indent="-457200">
              <a:lnSpc>
                <a:spcPct val="90000"/>
              </a:lnSpc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географическое размещение организаци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371600" indent="-457200">
              <a:lnSpc>
                <a:spcPct val="90000"/>
              </a:lnSpc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технология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371600" indent="-457200">
              <a:lnSpc>
                <a:spcPct val="90000"/>
              </a:lnSpc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динамизм внешней среды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371600" indent="-457200">
              <a:lnSpc>
                <a:spcPct val="90000"/>
              </a:lnSpc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ратегия, реализуемая предприятием.</a:t>
            </a: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609120" y="620280"/>
            <a:ext cx="6348600" cy="54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 u="sng">
                <a:solidFill>
                  <a:srgbClr val="404040"/>
                </a:solidFill>
                <a:uFillTx/>
                <a:latin typeface="Trebuchet MS"/>
              </a:rPr>
              <a:t>Структурные изменения 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— это часть организационного процесса, относящегося к изменениям в системе распределения полномочий и ответственности, координации и интеграции деятельности подразделений фирмы, управленческой иерархии и степени централизации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179280" y="476280"/>
            <a:ext cx="878544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404040"/>
                </a:solidFill>
                <a:latin typeface="Trebuchet MS"/>
              </a:rPr>
              <a:t>Организационная культура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Выделяют пять факторов, определяющих формирование и применение организационной культуры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ценности и убеждения высшего руководства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реакция руководства на критические ситуации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отношение к работе и стиль поведения руководителей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критериальная база поощрения сотрудников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критерии отбора, назначения, продвижения и увольнения из организации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23640" y="369360"/>
            <a:ext cx="677052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>
                <a:solidFill>
                  <a:srgbClr val="418ab3"/>
                </a:solidFill>
                <a:latin typeface="Trebuchet MS"/>
              </a:rPr>
              <a:t>Процесс приведения организационной культуры в соответствие со стратегией фирмы</a:t>
            </a:r>
            <a:endParaRPr b="0" lang="en-US" sz="29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тличительная особенность «великих компаний» — симбиоз деловой стратегии и корпоративной культуры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2" name="Picture 2" descr="Q:\Инна\В Г У Э С\Лекции\Стратегический менеджмент - бакалавры\media\image7.png"/>
          <p:cNvPicPr/>
          <p:nvPr/>
        </p:nvPicPr>
        <p:blipFill>
          <a:blip r:embed="rId1"/>
          <a:stretch/>
        </p:blipFill>
        <p:spPr>
          <a:xfrm>
            <a:off x="304920" y="2146320"/>
            <a:ext cx="8321400" cy="2357280"/>
          </a:xfrm>
          <a:prstGeom prst="rect">
            <a:avLst/>
          </a:prstGeom>
          <a:ln w="0">
            <a:noFill/>
          </a:ln>
        </p:spPr>
      </p:pic>
      <p:sp>
        <p:nvSpPr>
          <p:cNvPr id="243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3T03:11:31Z</dcterms:created>
  <dc:creator>Инна</dc:creator>
  <dc:description/>
  <dc:language>en-US</dc:language>
  <cp:lastModifiedBy>Толя</cp:lastModifiedBy>
  <dcterms:modified xsi:type="dcterms:W3CDTF">2014-12-01T07:21:20Z</dcterms:modified>
  <cp:revision>12</cp:revision>
  <dc:subject/>
  <dc:title>Theme 9</dc:title>
</cp:coreProperties>
</file>